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117-8D9A-472E-846E-A0EB1281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6AE-AD6E-4E15-94FA-F87FF78D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AC7-2A1B-4460-B407-2D1831AC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022-220D-44F4-B46E-4EABCF83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7B0-E408-4A4C-90E8-BC79A94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D76-CD05-4F0F-ACBD-7BCB0A20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E19-A794-48E0-A9C9-43343670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DE9-8D85-4AE0-83D5-CEF7CB31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67B-2A13-4BD7-B534-F6933A9B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5DC-8E9D-41DF-A20A-B478A62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D8E-106A-4BBD-909E-E16950C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21F-FCDB-4C1A-B5E0-EFA9071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300-FF1B-4802-B6EE-375B1BC9D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Feature Article</a:t>
            </a:r>
            <a:br>
              <a:rPr sz="4400"/>
            </a:br>
            <a:r>
              <a:rPr b="0" lang="en-US" sz="4400" spc="-1" strike="noStrike">
                <a:solidFill>
                  <a:srgbClr val="ff8a06"/>
                </a:solidFill>
                <a:latin typeface="Palatino"/>
              </a:rPr>
              <a:t>Choosing a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Feature article writers know a great feature article begins with a great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ff04"/>
                </a:solidFill>
                <a:latin typeface="Palatino"/>
              </a:rPr>
              <a:t>Great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are clos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are important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you already know a lot abou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need to be interesting to thei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need to b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After you have chosen your topic, ask yourself these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Is the topic interest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Who are your readers?  Will the topic be interesting to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Is the information new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After you have chosen your topic, ask yourself these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Will you be able to find information about your topic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What will you want your readers to understand about your topic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What will be your purpose or big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With these questions in mind, make a final decision about your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3809880"/>
            <a:ext cx="7848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a06"/>
                </a:solidFill>
                <a:latin typeface="Palatino"/>
              </a:rPr>
              <a:t>You need to let me know your decision as soon as possib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9:16:40Z</dcterms:created>
  <dc:creator>AAPS</dc:creator>
  <dc:description/>
  <dc:language>en-US</dc:language>
  <cp:lastModifiedBy>AAPS</cp:lastModifiedBy>
  <cp:lastPrinted>2005-10-17T16:57:31Z</cp:lastPrinted>
  <dcterms:modified xsi:type="dcterms:W3CDTF">2005-10-20T12:24:47Z</dcterms:modified>
  <cp:revision>17</cp:revision>
  <dc:subject/>
  <dc:title>Feature Article Interests and Subject</dc:title>
</cp:coreProperties>
</file>